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7.png" ContentType="image/png"/>
  <Override PartName="/ppt/media/image40.wmf" ContentType="image/x-wmf"/>
  <Override PartName="/ppt/media/image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16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9.wmf" ContentType="image/x-wmf"/>
  <Override PartName="/ppt/media/image39.wmf" ContentType="image/x-wmf"/>
  <Override PartName="/ppt/media/image8.png" ContentType="image/png"/>
  <Override PartName="/ppt/media/image41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1902-CA9D-48B4-9A16-B98153AFA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2CE7-919F-4272-ABB1-8C02827AE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15B-1886-469D-A69F-15234D1F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3022-4715-4DE9-B0BE-778624D4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100-C985-4FCD-985B-1715CFE5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B4A-D719-4E87-B843-AB8D8ABC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9D57-24BA-4067-AD78-1658C285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E90C-2936-48F6-96E9-97D6F6A7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0429-5561-40CE-8C28-19EFF1E4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76C8-A6A9-4538-AEDD-27827C53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7143-06C4-4C51-90FB-C1BA2A5F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11D3-C55C-44A9-A60E-37153E69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C09C-C826-4AFE-A0A8-88A2FC3D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41E-5B47-4787-A65A-3139C83A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3F5F-702E-419E-BC98-77041A72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07F8-002C-451C-A2FE-42661E03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EEE7-8CE2-4F39-85EA-1BF9AC29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C034-4B7E-4168-8A39-08C419BA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0978-9711-40AD-97ED-1349B13C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A71-74BE-4D29-BAD8-94BD1B0C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E4D-9E65-4A20-84DC-706A6D6E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7334-50E4-41AB-936F-B668FE0F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CADA-C6EE-4E38-907E-D59E1713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EF61-3918-4DD3-9FCA-907475F9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4A4-5197-41A1-9074-976481B0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74A-2844-4A85-B60E-0A072F4B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Freeform 11"/>
              <p:cNvSpPr/>
              <p:nvPr/>
            </p:nvSpPr>
            <p:spPr>
              <a:xfrm>
                <a:off x="485460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95" y="0"/>
                    </a:moveTo>
                    <a:lnTo>
                      <a:pt x="95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470520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5561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4067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425772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410688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5" y="336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Freeform 18"/>
              <p:cNvSpPr/>
              <p:nvPr/>
            </p:nvSpPr>
            <p:spPr>
              <a:xfrm>
                <a:off x="485460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95" y="328"/>
                    </a:moveTo>
                    <a:lnTo>
                      <a:pt x="95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5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70520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45561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4067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425772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410688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5" y="0"/>
                    </a:lnTo>
                    <a:lnTo>
                      <a:pt x="95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Freeform 25"/>
              <p:cNvSpPr/>
              <p:nvPr/>
            </p:nvSpPr>
            <p:spPr>
              <a:xfrm>
                <a:off x="0" y="379404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36180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34416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3265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30891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0" y="2913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Group 31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Freeform 32"/>
              <p:cNvSpPr/>
              <p:nvPr/>
            </p:nvSpPr>
            <p:spPr>
              <a:xfrm>
                <a:off x="8659800" y="37688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59800" y="3600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659800" y="34322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659800" y="3263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8659800" y="30956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659800" y="292752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0D8B-38D6-4817-8F64-CD88F8CF018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7AB8-FD55-411E-9195-CEF702DD5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Rectangle 3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4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5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6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7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8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9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0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Group 11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Freeform 12"/>
              <p:cNvSpPr/>
              <p:nvPr/>
            </p:nvSpPr>
            <p:spPr>
              <a:xfrm>
                <a:off x="42577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13"/>
              <p:cNvSpPr/>
              <p:nvPr/>
            </p:nvSpPr>
            <p:spPr>
              <a:xfrm>
                <a:off x="41054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14"/>
              <p:cNvSpPr/>
              <p:nvPr/>
            </p:nvSpPr>
            <p:spPr>
              <a:xfrm>
                <a:off x="45529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15"/>
              <p:cNvSpPr/>
              <p:nvPr/>
            </p:nvSpPr>
            <p:spPr>
              <a:xfrm>
                <a:off x="44006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>
                <a:off x="484668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17"/>
              <p:cNvSpPr/>
              <p:nvPr/>
            </p:nvSpPr>
            <p:spPr>
              <a:xfrm>
                <a:off x="469440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8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Freeform 19"/>
              <p:cNvSpPr/>
              <p:nvPr/>
            </p:nvSpPr>
            <p:spPr>
              <a:xfrm>
                <a:off x="0" y="29559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20"/>
              <p:cNvSpPr/>
              <p:nvPr/>
            </p:nvSpPr>
            <p:spPr>
              <a:xfrm>
                <a:off x="0" y="2779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21"/>
              <p:cNvSpPr/>
              <p:nvPr/>
            </p:nvSpPr>
            <p:spPr>
              <a:xfrm>
                <a:off x="0" y="26035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22"/>
              <p:cNvSpPr/>
              <p:nvPr/>
            </p:nvSpPr>
            <p:spPr>
              <a:xfrm>
                <a:off x="0" y="2427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23"/>
              <p:cNvSpPr/>
              <p:nvPr/>
            </p:nvSpPr>
            <p:spPr>
              <a:xfrm>
                <a:off x="0" y="225108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0" y="2075040"/>
                <a:ext cx="496800" cy="17748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5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Freeform 26"/>
              <p:cNvSpPr/>
              <p:nvPr/>
            </p:nvSpPr>
            <p:spPr>
              <a:xfrm>
                <a:off x="8639280" y="2916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>
                <a:off x="8639280" y="27478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28"/>
              <p:cNvSpPr/>
              <p:nvPr/>
            </p:nvSpPr>
            <p:spPr>
              <a:xfrm>
                <a:off x="8639280" y="2579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9"/>
              <p:cNvSpPr/>
              <p:nvPr/>
            </p:nvSpPr>
            <p:spPr>
              <a:xfrm>
                <a:off x="8639280" y="24112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30"/>
              <p:cNvSpPr/>
              <p:nvPr/>
            </p:nvSpPr>
            <p:spPr>
              <a:xfrm>
                <a:off x="8639280" y="22431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31"/>
              <p:cNvSpPr/>
              <p:nvPr/>
            </p:nvSpPr>
            <p:spPr>
              <a:xfrm>
                <a:off x="8639280" y="207504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B83C-E582-425C-9EB8-5F16F1D0B95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ED3E-A605-4AD7-A697-73B140D07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6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F99A-35B9-446A-84C8-E23525188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hapter 5</a:t>
            </a:r>
            <a:br>
              <a:rPr sz="4400"/>
            </a:br>
            <a:br>
              <a:rPr sz="4400"/>
            </a:br>
            <a:r>
              <a:rPr b="1" i="1" lang="en-US" sz="4000" spc="-1" strike="noStrike">
                <a:solidFill>
                  <a:srgbClr val="000080"/>
                </a:solidFill>
                <a:latin typeface="Times New Roman"/>
              </a:rPr>
              <a:t>The Mathematics of Diversification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12"/>
          <p:cNvGraphicFramePr/>
          <p:nvPr/>
        </p:nvGraphicFramePr>
        <p:xfrm>
          <a:off x="6019920" y="3962520"/>
          <a:ext cx="166824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962520"/>
                    <a:ext cx="166824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4FA8-7F36-4234-8693-3F7278F52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e following statistics for Stock A and Stock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62120" y="3429000"/>
          <a:ext cx="7391160" cy="2835360"/>
        </p:xfrm>
        <a:graphic>
          <a:graphicData uri="http://schemas.openxmlformats.org/drawingml/2006/table">
            <a:tbl>
              <a:tblPr/>
              <a:tblGrid>
                <a:gridCol w="2971800"/>
                <a:gridCol w="1955520"/>
                <a:gridCol w="246384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cted retu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dev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elation coeffici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DC4D-B50F-46E1-B63A-888EE21D7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expected return of this two-security portfoli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4"/>
          <p:cNvGraphicFramePr/>
          <p:nvPr/>
        </p:nvGraphicFramePr>
        <p:xfrm>
          <a:off x="2209680" y="3505320"/>
          <a:ext cx="484056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505320"/>
                    <a:ext cx="484056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1ADF-2535-484A-BE2D-2042A0B56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 (cont’d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variance of this two-security portfoli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30"/>
          <p:cNvGraphicFramePr/>
          <p:nvPr/>
        </p:nvGraphicFramePr>
        <p:xfrm>
          <a:off x="533520" y="3809880"/>
          <a:ext cx="826776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9880"/>
                    <a:ext cx="826776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6C97-DDC1-4F88-AB52-822F80475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Portfolio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nimum variance portfolio is the particular combination of securities that will result in the least possible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for the minimum variance portfolio requires basic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A213-BF1A-4ACA-905A-0501A9B4F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wo-security minimum variance portfolio, the proportions invested in stocks A and B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2133720" y="3581280"/>
          <a:ext cx="452124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581280"/>
                    <a:ext cx="452124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C92B-EA33-49B2-91D0-F1B0213A2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weights of the minimum variance portfolios in the previous case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5"/>
          <p:cNvGraphicFramePr/>
          <p:nvPr/>
        </p:nvGraphicFramePr>
        <p:xfrm>
          <a:off x="533520" y="3962520"/>
          <a:ext cx="8153280" cy="18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962520"/>
                    <a:ext cx="815328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BCA2-0B36-4103-B700-5C84B1899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Object 5"/>
          <p:cNvGraphicFramePr/>
          <p:nvPr/>
        </p:nvGraphicFramePr>
        <p:xfrm>
          <a:off x="1600200" y="2362320"/>
          <a:ext cx="556272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62320"/>
                    <a:ext cx="556272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6"/>
          <p:cNvSpPr/>
          <p:nvPr/>
        </p:nvSpPr>
        <p:spPr>
          <a:xfrm flipH="1" rot="10800000">
            <a:off x="1069200" y="2895480"/>
            <a:ext cx="546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igh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3427200" y="594360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rtfolio 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2133720" y="4114800"/>
            <a:ext cx="32004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5334120" y="4114800"/>
            <a:ext cx="0" cy="1371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FD3F-CF05-4302-9DD9-42C769EAE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rrelation and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Risk Re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folio risk decreases as the correlation coefficient in the returns of two securities de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reduction is greatest when the securities are perfectly negatively cor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ecurities are perfectly positively correlated, there is no risk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F3A9-672E-49B5-B799-8D30D627F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n-Security Ca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n-security portfolio, the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1295280" y="3048120"/>
          <a:ext cx="661212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66121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066B-EA20-4C93-B6E6-CA2E33722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n-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variance matr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abular presentation of the pairwise combinations of all portfolio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quired number of covariances to compute a portfolio variance is (n</a:t>
            </a:r>
            <a:r>
              <a:rPr b="0" lang="en-US" sz="2800" spc="-1" strike="noStrike" baseline="4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n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ortfolio construction technique using the full covariance matrix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rkowitz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87D0-8811-48F4-9BE8-1E0A781D7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son for portfolio theory mathemat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why diversification is a good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why diversification makes sense log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F7D8-3D75-4CD8-A714-0EB1404C1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Example of Variance-Covariance Matrix Computation in Excel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76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E91D-C5AB-41AE-9D80-3AD4D8F52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2BBF-2997-48E0-84BB-0D54E91C2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4"/>
          <p:cNvSpPr/>
          <p:nvPr/>
        </p:nvSpPr>
        <p:spPr>
          <a:xfrm>
            <a:off x="0" y="-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2600" y="3687840"/>
          <a:ext cx="596880" cy="517320"/>
        </p:xfrm>
        <a:graphic>
          <a:graphicData uri="http://schemas.openxmlformats.org/drawingml/2006/table">
            <a:tbl>
              <a:tblPr/>
              <a:tblGrid>
                <a:gridCol w="5968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5" name="Picture 258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5B7B-950A-4427-B0E8-73B4FC64F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Portfolio Mathematics (Matrix Form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 as the (vertical) vector of weights on the different ass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 the (vertical) vector of expecte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 be their variance-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the portfolio is th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folio optimization consists of minimizing this variance subject to the constraint of achieving a given expected ret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2286000" y="4114800"/>
          <a:ext cx="175248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114800"/>
                    <a:ext cx="17524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5"/>
          <p:cNvGraphicFramePr/>
          <p:nvPr/>
        </p:nvGraphicFramePr>
        <p:xfrm>
          <a:off x="2133720" y="2819520"/>
          <a:ext cx="4078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819520"/>
                    <a:ext cx="407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7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D133-3A42-4455-87D3-B2FCF05B8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80"/>
                </a:solidFill>
                <a:uFillTx/>
                <a:latin typeface="Times New Roman"/>
              </a:rPr>
              <a:t>Portfolio Variance in the 2-asset case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6"/>
          <p:cNvGraphicFramePr/>
          <p:nvPr/>
        </p:nvGraphicFramePr>
        <p:xfrm>
          <a:off x="838080" y="5029200"/>
          <a:ext cx="426744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029200"/>
                    <a:ext cx="4267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4"/>
          <p:cNvGraphicFramePr/>
          <p:nvPr/>
        </p:nvGraphicFramePr>
        <p:xfrm>
          <a:off x="914400" y="2590920"/>
          <a:ext cx="37339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590920"/>
                    <a:ext cx="37339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5"/>
          <p:cNvGraphicFramePr/>
          <p:nvPr/>
        </p:nvGraphicFramePr>
        <p:xfrm>
          <a:off x="838080" y="3962520"/>
          <a:ext cx="5486400" cy="104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962520"/>
                    <a:ext cx="54864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8"/>
          <p:cNvGraphicFramePr/>
          <p:nvPr/>
        </p:nvGraphicFramePr>
        <p:xfrm>
          <a:off x="838080" y="5638680"/>
          <a:ext cx="4724640" cy="5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638680"/>
                    <a:ext cx="47246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1560-C8F7-40A2-899C-BA6E454FB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Covariance Between Two Portfolios (Matrix Form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(vertical) vector of weights on the different assets in portfolio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(vertical) vector of weights on the different assets in portfolio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 the (vertical) vector of expecte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 be their variance-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the two portfolio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Object 4"/>
          <p:cNvGraphicFramePr/>
          <p:nvPr/>
        </p:nvGraphicFramePr>
        <p:xfrm>
          <a:off x="762120" y="5257800"/>
          <a:ext cx="79246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257800"/>
                    <a:ext cx="79246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5"/>
          <p:cNvGraphicFramePr/>
          <p:nvPr/>
        </p:nvGraphicFramePr>
        <p:xfrm>
          <a:off x="2133720" y="3657600"/>
          <a:ext cx="4078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657600"/>
                    <a:ext cx="407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625A-23F7-414B-9681-9BE3B6D12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80"/>
                </a:solidFill>
                <a:uFillTx/>
                <a:latin typeface="Times New Roman"/>
              </a:rPr>
              <a:t>The Optimization Problem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E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esired (target) expected return on the portfolio and     is a vector of ones and the vector     is defined a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2971800" y="1981080"/>
          <a:ext cx="103500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81080"/>
                    <a:ext cx="10350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5"/>
          <p:cNvGraphicFramePr/>
          <p:nvPr/>
        </p:nvGraphicFramePr>
        <p:xfrm>
          <a:off x="1676520" y="2438280"/>
          <a:ext cx="38088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438280"/>
                    <a:ext cx="3808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6"/>
          <p:cNvGraphicFramePr/>
          <p:nvPr/>
        </p:nvGraphicFramePr>
        <p:xfrm>
          <a:off x="2895480" y="3112920"/>
          <a:ext cx="2140200" cy="12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112920"/>
                    <a:ext cx="2140200" cy="12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7"/>
          <p:cNvGraphicFramePr/>
          <p:nvPr/>
        </p:nvGraphicFramePr>
        <p:xfrm>
          <a:off x="2743200" y="4648320"/>
          <a:ext cx="2286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4648320"/>
                    <a:ext cx="228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8"/>
          <p:cNvGraphicFramePr/>
          <p:nvPr/>
        </p:nvGraphicFramePr>
        <p:xfrm>
          <a:off x="7086600" y="4800600"/>
          <a:ext cx="35244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4800600"/>
                    <a:ext cx="352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9"/>
          <p:cNvGraphicFramePr/>
          <p:nvPr/>
        </p:nvGraphicFramePr>
        <p:xfrm>
          <a:off x="2743200" y="5105520"/>
          <a:ext cx="2133720" cy="120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5105520"/>
                    <a:ext cx="213372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7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9D08-7139-4C33-A3B7-D2A10D9AE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Lagrangian Method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2057400" y="2743200"/>
          <a:ext cx="541008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743200"/>
                    <a:ext cx="5410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4"/>
          <p:cNvGraphicFramePr/>
          <p:nvPr/>
        </p:nvGraphicFramePr>
        <p:xfrm>
          <a:off x="1523880" y="1752480"/>
          <a:ext cx="5867640" cy="8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752480"/>
                    <a:ext cx="58676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7"/>
          <p:cNvGraphicFramePr/>
          <p:nvPr/>
        </p:nvGraphicFramePr>
        <p:xfrm>
          <a:off x="914400" y="2362320"/>
          <a:ext cx="30492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3623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10"/>
          <p:cNvGraphicFramePr/>
          <p:nvPr/>
        </p:nvGraphicFramePr>
        <p:xfrm>
          <a:off x="1447920" y="3429000"/>
          <a:ext cx="304560" cy="27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3429000"/>
                    <a:ext cx="3045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1"/>
          <p:cNvGraphicFramePr/>
          <p:nvPr/>
        </p:nvGraphicFramePr>
        <p:xfrm>
          <a:off x="2438280" y="3809880"/>
          <a:ext cx="5032440" cy="89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809880"/>
                    <a:ext cx="50324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13"/>
          <p:cNvGraphicFramePr/>
          <p:nvPr/>
        </p:nvGraphicFramePr>
        <p:xfrm>
          <a:off x="1828800" y="4419720"/>
          <a:ext cx="304920" cy="2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0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44197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15"/>
          <p:cNvGraphicFramePr/>
          <p:nvPr/>
        </p:nvGraphicFramePr>
        <p:xfrm>
          <a:off x="741240" y="4714920"/>
          <a:ext cx="5757840" cy="159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2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1240" y="4714920"/>
                    <a:ext cx="575784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90F0-D453-4346-A72E-AD5022EAB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Taking Derivativ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05" name="Object 4"/>
          <p:cNvGraphicFramePr/>
          <p:nvPr/>
        </p:nvGraphicFramePr>
        <p:xfrm>
          <a:off x="685800" y="1981080"/>
          <a:ext cx="678168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67816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5640-8399-4105-8679-DAFB7872B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990720" y="555480"/>
          <a:ext cx="7010280" cy="58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55480"/>
                    <a:ext cx="7010280" cy="58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CDD8-99CF-40E1-8D50-A17BF21AA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ry Markowitz’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fficient portfoli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portfolios providing the maximum return for their level of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portfolios providing the minimum risk for a certain level of 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39EA-57EF-44A8-A169-B8C6EEC0B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equation solves the mean-variance portfolio problem. The equation gives us the optimal weights achieving the lowest portfolio variance given a desired expected portfolio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plugging the optimal portfolio weights back into the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us the efficient portfolio fronti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Object 6"/>
          <p:cNvGraphicFramePr/>
          <p:nvPr/>
        </p:nvGraphicFramePr>
        <p:xfrm>
          <a:off x="6248520" y="3733920"/>
          <a:ext cx="152388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733920"/>
                    <a:ext cx="152388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7"/>
          <p:cNvGraphicFramePr/>
          <p:nvPr/>
        </p:nvGraphicFramePr>
        <p:xfrm>
          <a:off x="1143000" y="5005440"/>
          <a:ext cx="617220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5005440"/>
                    <a:ext cx="61722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6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A602-149B-4194-AECE-A14B21CED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Global Minimum Variance Portfolio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similar fashion, we can solve for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obal minimum 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rtfol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minimum variance portfolio is the efficient frontier portfolio that displays the absolute minimum vari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143000" y="3124080"/>
          <a:ext cx="693432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124080"/>
                    <a:ext cx="69343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7A2F-F19F-46B3-A150-1B6E5F05E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Another Way to Derive the Mean-Variance Efficient Portfolio </a:t>
            </a:r>
            <a:r>
              <a:rPr b="0" lang="en-US" sz="4000" spc="-1" strike="noStrike" u="sng">
                <a:solidFill>
                  <a:srgbClr val="000080"/>
                </a:solidFill>
                <a:uFillTx/>
                <a:latin typeface="Times New Roman"/>
              </a:rPr>
              <a:t>Frontier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use of the following property: if two portfolios lie on the efficient frontier, any linear combination of these portfolios will also lie on the frontier. Therefore, just find two mean-variance efficient portfolios, and compute/plot the mean and standard deviation of various linear combinations of these portfol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4F0D-F8C2-4008-AB56-883B784E9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8B10-B24F-4887-8611-5293EE7B3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14E4-0E71-4E2B-AC18-9BDF727C2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Some Excel Tip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i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n array (i.e., to name a matrix or a vector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 the array (the numbers defining the matr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‘Insert’, then ‘Name’, and finally ‘Define’ and type in the desired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46AE-4E57-4D43-B93A-567357C72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cel Tips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ve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matrix previously named (as an example) “V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the following formula:   ‘=minverse(V)’  and click 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select the cell where you just entered the formula, and highlight a larger area/array of the size that you predict the inverse matrix will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F2, then CTRL + SHIFT +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97C4-E454-4083-B774-ECDDAA5B5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cel Tips (en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lti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atrices named “V” and “W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the following formula:   ‘=mmult(V,W)’  and click 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select the cell where you just entered the formula, and highlight a larger area/array of the size that you predict the product matrix will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F2, then CTRL + SHIFT +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C354-64F9-4DC5-AD35-62FD5D4C3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</a:rPr>
              <a:t>Single-Index Model Computational Advantages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ngle-index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ares all securities to a single bench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ternative to comparing a security to each of the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observing how two independent securities behave relative to a third value, we learn something about how the securities are likely to behave relative to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582A-5924-4182-953A-C888093DF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mputational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dvantages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gle index drastically reduces the number of computations needed to determine portfolio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curity’s beta is an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1905120" y="3962520"/>
          <a:ext cx="5003640" cy="23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962520"/>
                    <a:ext cx="500364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12EF-9865-4C12-9022-FD595F092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rtfolio’s performance is the result of the performance of its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turn realized on a portfolio is a linear combination of the returns on the individual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the portfolio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ar combination of component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0575-A725-4FAC-A28D-CDADFDD43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Statistics With the Single-Index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a of a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a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Object 4"/>
          <p:cNvGraphicFramePr/>
          <p:nvPr/>
        </p:nvGraphicFramePr>
        <p:xfrm>
          <a:off x="2971800" y="2514600"/>
          <a:ext cx="217188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514600"/>
                    <a:ext cx="217188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"/>
          <p:cNvGraphicFramePr/>
          <p:nvPr/>
        </p:nvGraphicFramePr>
        <p:xfrm>
          <a:off x="2819520" y="4419720"/>
          <a:ext cx="264132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419720"/>
                    <a:ext cx="26413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99FF-4A76-4147-BE06-D481BDCA1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762120" y="1295280"/>
          <a:ext cx="671328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671328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474A-74A0-4029-AAFC-F3753E517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Statistics With the Single-Index Model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a portfolio compon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nce of two portfolio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Object 6"/>
          <p:cNvGraphicFramePr/>
          <p:nvPr/>
        </p:nvGraphicFramePr>
        <p:xfrm>
          <a:off x="2895480" y="2666880"/>
          <a:ext cx="322596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666880"/>
                    <a:ext cx="32259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7"/>
          <p:cNvGraphicFramePr/>
          <p:nvPr/>
        </p:nvGraphicFramePr>
        <p:xfrm>
          <a:off x="3276720" y="4572000"/>
          <a:ext cx="2527200" cy="6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572000"/>
                    <a:ext cx="25272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725E-B63B-4F40-B0DB-276975A54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533520" y="2022480"/>
          <a:ext cx="807696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22480"/>
                    <a:ext cx="80769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767B-3843-4AC6-9EBF-47FECE130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ulti-Index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-index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ders independent variables other than the performance of an overall market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particular interest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ustry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 associated with a particular line of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the performance of grocery stores vs. steel companies in a re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4292-EE8C-4BD2-8B2E-CAE12AA8B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ulti-Index Model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form of a multi-index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Object 4"/>
          <p:cNvGraphicFramePr/>
          <p:nvPr/>
        </p:nvGraphicFramePr>
        <p:xfrm>
          <a:off x="1295280" y="2544840"/>
          <a:ext cx="6248520" cy="37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44840"/>
                    <a:ext cx="6248520" cy="37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4E25-1035-4F04-BBC8-F8FC60677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Retur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ected return of a portfolio is a weighted average of the expected returns of the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905120" y="3429000"/>
          <a:ext cx="506736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429000"/>
                    <a:ext cx="506736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5F76-4F85-4E18-909A-D592AA65C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Varianc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securit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variance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and risk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-securit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BD5A-F6A4-4000-9642-2D0132A82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ing portfolio variance is the essence of understanding the mathematics of diver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a linear combination of random variables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weighted average of the component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3FAF-5FC5-4103-84B9-754960431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n-security portfolio, the portfolio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219320" y="3352680"/>
          <a:ext cx="66117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117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7571-0461-4980-BE15-E2602162A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-Security Ca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wo-security portfolio containing Stock A and Stock B, the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1066680" y="3581280"/>
          <a:ext cx="636300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581280"/>
                    <a:ext cx="63630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19:49:06Z</dcterms:created>
  <dc:creator>Paul</dc:creator>
  <dc:description/>
  <dc:language>en-US</dc:language>
  <cp:lastModifiedBy>Paul Grems Duncan</cp:lastModifiedBy>
  <dcterms:modified xsi:type="dcterms:W3CDTF">2011-03-15T01:48:46Z</dcterms:modified>
  <cp:revision>144</cp:revision>
  <dc:subject/>
  <dc:title>PowerPoint Presentation</dc:title>
</cp:coreProperties>
</file>