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47.wmf" ContentType="image/x-wmf"/>
  <Override PartName="/ppt/media/image15.wmf" ContentType="image/x-wmf"/>
  <Override PartName="/ppt/media/image7.png" ContentType="image/png"/>
  <Override PartName="/ppt/media/image40.wmf" ContentType="image/x-wmf"/>
  <Override PartName="/ppt/media/image3.png" ContentType="image/png"/>
  <Override PartName="/ppt/media/image35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5.png" ContentType="image/png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16.wmf" ContentType="image/x-wmf"/>
  <Override PartName="/ppt/media/image34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9.wmf" ContentType="image/x-wmf"/>
  <Override PartName="/ppt/media/image39.wmf" ContentType="image/x-wmf"/>
  <Override PartName="/ppt/media/image8.png" ContentType="image/png"/>
  <Override PartName="/ppt/media/image41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8DC8-340D-4A9E-92B6-D9563E02E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7CF8-FD98-46A9-8A98-950ED8496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EACA-B2BA-4895-B2F0-71B73756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F131-5E98-494C-8543-30A1C258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8BDB-23B2-4E89-B79F-35136571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85CE-533C-4DBC-82EB-B9895DB5A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ECEB-6D5D-4DDB-8B6B-057DC0C6E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15DF-0EF8-4CE2-909C-43A54E4F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1867-94C2-4414-91D4-A1B14147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5980-1951-4CBE-8791-5FF54F08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B385-B0BA-4BD2-A31C-9AC60384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7085-4324-4979-8237-574835E0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2863-0592-4781-AEDB-69D81732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A907-58B4-4264-A72E-0ECE7865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BC3B-9175-4DAD-B88E-BFDA3CC7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07E5-928D-49A3-9C48-32DF098F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78C9-69B7-4A58-AF1A-0ADED8FC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856E-9805-4322-AFE3-0F7BD7FB0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6F91-B117-4F71-9DD2-F7A724FDA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9F47-AE4C-485E-84B1-4D62664F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8753-EE77-4DD2-A1CA-6A4FF818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52A9-AF8F-439C-AC41-E08F520B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7011-9831-4ECB-A815-AE463C35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E41A-02E2-4D62-817C-7C18670E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4B8F-AEBB-4940-A1F5-72FE68FD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4486-6A01-4404-B9BF-40076F25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64520" cy="6867360"/>
            <a:chOff x="0" y="0"/>
            <a:chExt cx="916452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4557600" cy="3432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32240"/>
              <a:ext cx="4556160" cy="3419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5240" y="0"/>
              <a:ext cx="4557600" cy="3432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5240" y="3432240"/>
              <a:ext cx="4557600" cy="34192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91960" y="330120"/>
              <a:ext cx="8566200" cy="6203880"/>
            </a:xfrm>
            <a:prstGeom prst="rect">
              <a:avLst/>
            </a:prstGeom>
            <a:noFill/>
            <a:ln w="1260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396720" y="425520"/>
              <a:ext cx="8356680" cy="6013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66560" y="500040"/>
              <a:ext cx="8212320" cy="585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" name="Group 10"/>
            <p:cNvGrpSpPr/>
            <p:nvPr/>
          </p:nvGrpSpPr>
          <p:grpSpPr>
            <a:xfrm>
              <a:off x="4106880" y="0"/>
              <a:ext cx="900000" cy="534960"/>
              <a:chOff x="4106880" y="0"/>
              <a:chExt cx="900000" cy="534960"/>
            </a:xfrm>
          </p:grpSpPr>
          <p:sp>
            <p:nvSpPr>
              <p:cNvPr id="9" name="Freeform 11"/>
              <p:cNvSpPr/>
              <p:nvPr/>
            </p:nvSpPr>
            <p:spPr>
              <a:xfrm>
                <a:off x="4854600" y="0"/>
                <a:ext cx="152280" cy="5349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6" h="337">
                    <a:moveTo>
                      <a:pt x="95" y="0"/>
                    </a:moveTo>
                    <a:lnTo>
                      <a:pt x="95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5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470520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4" y="336"/>
                    </a:lnTo>
                    <a:lnTo>
                      <a:pt x="9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55616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94" y="0"/>
                    </a:moveTo>
                    <a:lnTo>
                      <a:pt x="94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4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40676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4" y="336"/>
                    </a:lnTo>
                    <a:lnTo>
                      <a:pt x="9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425772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94" y="0"/>
                    </a:moveTo>
                    <a:lnTo>
                      <a:pt x="94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4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4106880" y="0"/>
                <a:ext cx="152280" cy="5349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6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5" y="336"/>
                    </a:lnTo>
                    <a:lnTo>
                      <a:pt x="9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4106880" y="6345360"/>
              <a:ext cx="900000" cy="522000"/>
              <a:chOff x="4106880" y="6345360"/>
              <a:chExt cx="900000" cy="522000"/>
            </a:xfrm>
          </p:grpSpPr>
          <p:sp>
            <p:nvSpPr>
              <p:cNvPr id="16" name="Freeform 18"/>
              <p:cNvSpPr/>
              <p:nvPr/>
            </p:nvSpPr>
            <p:spPr>
              <a:xfrm>
                <a:off x="4854600" y="6345360"/>
                <a:ext cx="152280" cy="52200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6" h="329">
                    <a:moveTo>
                      <a:pt x="95" y="328"/>
                    </a:moveTo>
                    <a:lnTo>
                      <a:pt x="95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5" y="328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70520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4" y="0"/>
                    </a:lnTo>
                    <a:lnTo>
                      <a:pt x="94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455616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94" y="328"/>
                    </a:moveTo>
                    <a:lnTo>
                      <a:pt x="94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4" y="328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40676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4" y="0"/>
                    </a:lnTo>
                    <a:lnTo>
                      <a:pt x="94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425772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94" y="328"/>
                    </a:moveTo>
                    <a:lnTo>
                      <a:pt x="94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4" y="328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4106880" y="6345360"/>
                <a:ext cx="152280" cy="52200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6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5" y="0"/>
                    </a:lnTo>
                    <a:lnTo>
                      <a:pt x="95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" name="Group 24"/>
            <p:cNvGrpSpPr/>
            <p:nvPr/>
          </p:nvGrpSpPr>
          <p:grpSpPr>
            <a:xfrm>
              <a:off x="0" y="2913120"/>
              <a:ext cx="496800" cy="1058760"/>
              <a:chOff x="0" y="2913120"/>
              <a:chExt cx="496800" cy="1058760"/>
            </a:xfrm>
          </p:grpSpPr>
          <p:sp>
            <p:nvSpPr>
              <p:cNvPr id="23" name="Freeform 25"/>
              <p:cNvSpPr/>
              <p:nvPr/>
            </p:nvSpPr>
            <p:spPr>
              <a:xfrm>
                <a:off x="0" y="379404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361800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344160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32655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30891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0" y="291312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" name="Group 31"/>
            <p:cNvGrpSpPr/>
            <p:nvPr/>
          </p:nvGrpSpPr>
          <p:grpSpPr>
            <a:xfrm>
              <a:off x="8659800" y="2927520"/>
              <a:ext cx="504720" cy="1011240"/>
              <a:chOff x="8659800" y="2927520"/>
              <a:chExt cx="504720" cy="1011240"/>
            </a:xfrm>
          </p:grpSpPr>
          <p:sp>
            <p:nvSpPr>
              <p:cNvPr id="30" name="Freeform 32"/>
              <p:cNvSpPr/>
              <p:nvPr/>
            </p:nvSpPr>
            <p:spPr>
              <a:xfrm>
                <a:off x="8659800" y="376884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59800" y="36003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659800" y="343224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659800" y="32637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8659800" y="309564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659800" y="2927520"/>
                <a:ext cx="504720" cy="16956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68580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40B5-F16A-402B-897F-802D422FDFB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018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5FFB-4400-4AC2-AD74-11F6409A6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8" name="Rectangle 3"/>
            <p:cNvSpPr/>
            <p:nvPr/>
          </p:nvSpPr>
          <p:spPr>
            <a:xfrm>
              <a:off x="0" y="0"/>
              <a:ext cx="4557600" cy="2590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4"/>
            <p:cNvSpPr/>
            <p:nvPr/>
          </p:nvSpPr>
          <p:spPr>
            <a:xfrm>
              <a:off x="0" y="2590920"/>
              <a:ext cx="4556160" cy="4265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5"/>
            <p:cNvSpPr/>
            <p:nvPr/>
          </p:nvSpPr>
          <p:spPr>
            <a:xfrm>
              <a:off x="4575240" y="0"/>
              <a:ext cx="4557600" cy="2590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6"/>
            <p:cNvSpPr/>
            <p:nvPr/>
          </p:nvSpPr>
          <p:spPr>
            <a:xfrm>
              <a:off x="4575240" y="2590920"/>
              <a:ext cx="4557600" cy="4260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7"/>
            <p:cNvSpPr/>
            <p:nvPr/>
          </p:nvSpPr>
          <p:spPr>
            <a:xfrm>
              <a:off x="304920" y="4495680"/>
              <a:ext cx="8534160" cy="18288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8"/>
            <p:cNvSpPr/>
            <p:nvPr/>
          </p:nvSpPr>
          <p:spPr>
            <a:xfrm>
              <a:off x="291960" y="731880"/>
              <a:ext cx="8566200" cy="3794040"/>
            </a:xfrm>
            <a:prstGeom prst="rect">
              <a:avLst/>
            </a:prstGeom>
            <a:noFill/>
            <a:ln w="1260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9"/>
            <p:cNvSpPr/>
            <p:nvPr/>
          </p:nvSpPr>
          <p:spPr>
            <a:xfrm>
              <a:off x="396720" y="825480"/>
              <a:ext cx="8356680" cy="3606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0"/>
            <p:cNvSpPr/>
            <p:nvPr/>
          </p:nvSpPr>
          <p:spPr>
            <a:xfrm>
              <a:off x="466560" y="909720"/>
              <a:ext cx="8212320" cy="343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Group 11"/>
            <p:cNvGrpSpPr/>
            <p:nvPr/>
          </p:nvGrpSpPr>
          <p:grpSpPr>
            <a:xfrm>
              <a:off x="4105440" y="0"/>
              <a:ext cx="892080" cy="915840"/>
              <a:chOff x="4105440" y="0"/>
              <a:chExt cx="892080" cy="915840"/>
            </a:xfrm>
          </p:grpSpPr>
          <p:sp>
            <p:nvSpPr>
              <p:cNvPr id="87" name="Freeform 12"/>
              <p:cNvSpPr/>
              <p:nvPr/>
            </p:nvSpPr>
            <p:spPr>
              <a:xfrm>
                <a:off x="4257720" y="0"/>
                <a:ext cx="150840" cy="9158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Freeform 13"/>
              <p:cNvSpPr/>
              <p:nvPr/>
            </p:nvSpPr>
            <p:spPr>
              <a:xfrm>
                <a:off x="4105440" y="0"/>
                <a:ext cx="153720" cy="91584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Freeform 14"/>
              <p:cNvSpPr/>
              <p:nvPr/>
            </p:nvSpPr>
            <p:spPr>
              <a:xfrm>
                <a:off x="4552920" y="0"/>
                <a:ext cx="150840" cy="9158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Freeform 15"/>
              <p:cNvSpPr/>
              <p:nvPr/>
            </p:nvSpPr>
            <p:spPr>
              <a:xfrm>
                <a:off x="4400640" y="0"/>
                <a:ext cx="153720" cy="91584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Freeform 16"/>
              <p:cNvSpPr/>
              <p:nvPr/>
            </p:nvSpPr>
            <p:spPr>
              <a:xfrm>
                <a:off x="4846680" y="0"/>
                <a:ext cx="150840" cy="9158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Freeform 17"/>
              <p:cNvSpPr/>
              <p:nvPr/>
            </p:nvSpPr>
            <p:spPr>
              <a:xfrm>
                <a:off x="4694400" y="0"/>
                <a:ext cx="153720" cy="91584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Group 18"/>
            <p:cNvGrpSpPr/>
            <p:nvPr/>
          </p:nvGrpSpPr>
          <p:grpSpPr>
            <a:xfrm>
              <a:off x="0" y="2075040"/>
              <a:ext cx="496800" cy="1058760"/>
              <a:chOff x="0" y="2075040"/>
              <a:chExt cx="496800" cy="1058760"/>
            </a:xfrm>
          </p:grpSpPr>
          <p:sp>
            <p:nvSpPr>
              <p:cNvPr id="94" name="Freeform 19"/>
              <p:cNvSpPr/>
              <p:nvPr/>
            </p:nvSpPr>
            <p:spPr>
              <a:xfrm>
                <a:off x="0" y="29559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Freeform 20"/>
              <p:cNvSpPr/>
              <p:nvPr/>
            </p:nvSpPr>
            <p:spPr>
              <a:xfrm>
                <a:off x="0" y="27795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Freeform 21"/>
              <p:cNvSpPr/>
              <p:nvPr/>
            </p:nvSpPr>
            <p:spPr>
              <a:xfrm>
                <a:off x="0" y="260352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Freeform 22"/>
              <p:cNvSpPr/>
              <p:nvPr/>
            </p:nvSpPr>
            <p:spPr>
              <a:xfrm>
                <a:off x="0" y="242712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Freeform 23"/>
              <p:cNvSpPr/>
              <p:nvPr/>
            </p:nvSpPr>
            <p:spPr>
              <a:xfrm>
                <a:off x="0" y="225108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Freeform 24"/>
              <p:cNvSpPr/>
              <p:nvPr/>
            </p:nvSpPr>
            <p:spPr>
              <a:xfrm>
                <a:off x="0" y="2075040"/>
                <a:ext cx="496800" cy="17748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480"/>
                  <a:gd name="textAreaBottom" fmla="*/ 177840 h 17748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5"/>
            <p:cNvGrpSpPr/>
            <p:nvPr/>
          </p:nvGrpSpPr>
          <p:grpSpPr>
            <a:xfrm>
              <a:off x="8639280" y="2075040"/>
              <a:ext cx="504720" cy="1011240"/>
              <a:chOff x="8639280" y="2075040"/>
              <a:chExt cx="504720" cy="1011240"/>
            </a:xfrm>
          </p:grpSpPr>
          <p:sp>
            <p:nvSpPr>
              <p:cNvPr id="101" name="Freeform 26"/>
              <p:cNvSpPr/>
              <p:nvPr/>
            </p:nvSpPr>
            <p:spPr>
              <a:xfrm>
                <a:off x="8639280" y="29163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Freeform 27"/>
              <p:cNvSpPr/>
              <p:nvPr/>
            </p:nvSpPr>
            <p:spPr>
              <a:xfrm>
                <a:off x="8639280" y="274788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Freeform 28"/>
              <p:cNvSpPr/>
              <p:nvPr/>
            </p:nvSpPr>
            <p:spPr>
              <a:xfrm>
                <a:off x="8639280" y="25797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Freeform 29"/>
              <p:cNvSpPr/>
              <p:nvPr/>
            </p:nvSpPr>
            <p:spPr>
              <a:xfrm>
                <a:off x="8639280" y="241128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Freeform 30"/>
              <p:cNvSpPr/>
              <p:nvPr/>
            </p:nvSpPr>
            <p:spPr>
              <a:xfrm>
                <a:off x="8639280" y="22431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Freeform 31"/>
              <p:cNvSpPr/>
              <p:nvPr/>
            </p:nvSpPr>
            <p:spPr>
              <a:xfrm>
                <a:off x="8639280" y="2075040"/>
                <a:ext cx="504720" cy="16956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0B14-155B-4B05-AA2B-CEA154E6FE5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E53C-0251-448B-BAA6-D1442E699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6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DF7F-F524-434B-98EF-AF84FC64F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Chapter 5</a:t>
            </a:r>
            <a:br>
              <a:rPr sz="4400"/>
            </a:br>
            <a:br>
              <a:rPr sz="4400"/>
            </a:br>
            <a:r>
              <a:rPr b="1" i="1" lang="en-US" sz="4000" spc="-1" strike="noStrike">
                <a:solidFill>
                  <a:srgbClr val="000080"/>
                </a:solidFill>
                <a:latin typeface="Times New Roman"/>
              </a:rPr>
              <a:t>The Mathematics of Diversification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Object 12"/>
          <p:cNvGraphicFramePr/>
          <p:nvPr/>
        </p:nvGraphicFramePr>
        <p:xfrm>
          <a:off x="6019920" y="3962520"/>
          <a:ext cx="1668240" cy="22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3962520"/>
                    <a:ext cx="166824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8E0F-D00A-4F0E-AEA4-8349EBC5D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wo Security Case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ume the following statistics for Stock A and Stock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762120" y="3429000"/>
          <a:ext cx="7391160" cy="2835360"/>
        </p:xfrm>
        <a:graphic>
          <a:graphicData uri="http://schemas.openxmlformats.org/drawingml/2006/table">
            <a:tbl>
              <a:tblPr/>
              <a:tblGrid>
                <a:gridCol w="2971800"/>
                <a:gridCol w="1955520"/>
                <a:gridCol w="2463840"/>
              </a:tblGrid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ck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ck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ected retu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 devi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2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2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relation coeffici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8424-7640-436E-81B9-93790994B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wo Security Case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tion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expected return of this two-security portfolio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Object 4"/>
          <p:cNvGraphicFramePr/>
          <p:nvPr/>
        </p:nvGraphicFramePr>
        <p:xfrm>
          <a:off x="2209680" y="3505320"/>
          <a:ext cx="484056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505320"/>
                    <a:ext cx="484056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7E33-7829-4711-BDD0-D51A75C30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wo Security Case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tion (cont’d)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variance of this two-security portfolio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Object 30"/>
          <p:cNvGraphicFramePr/>
          <p:nvPr/>
        </p:nvGraphicFramePr>
        <p:xfrm>
          <a:off x="533520" y="3809880"/>
          <a:ext cx="8267760" cy="24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9880"/>
                    <a:ext cx="826776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48FE-09DF-4D38-9A38-1A30A479D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inimum Variance Portfolio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inimum variance portfolio is the particular combination of securities that will result in the least possible var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ing for the minimum variance portfolio requires basic calcu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6186-348C-40B2-8E90-DC188E6AE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inimum Variance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two-security minimum variance portfolio, the proportions invested in stocks A and B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Object 4"/>
          <p:cNvGraphicFramePr/>
          <p:nvPr/>
        </p:nvGraphicFramePr>
        <p:xfrm>
          <a:off x="2133720" y="3581280"/>
          <a:ext cx="452124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581280"/>
                    <a:ext cx="452124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BC8A-AB58-4251-9311-0D2A2DF58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inimum Variance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tion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weights of the minimum variance portfolios in the previous case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Object 5"/>
          <p:cNvGraphicFramePr/>
          <p:nvPr/>
        </p:nvGraphicFramePr>
        <p:xfrm>
          <a:off x="533520" y="3962520"/>
          <a:ext cx="8153280" cy="18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962520"/>
                    <a:ext cx="8153280" cy="18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BECB-8191-4F2F-92D4-106B97796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inimum Variance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Object 5"/>
          <p:cNvGraphicFramePr/>
          <p:nvPr/>
        </p:nvGraphicFramePr>
        <p:xfrm>
          <a:off x="1600200" y="2362320"/>
          <a:ext cx="556272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362320"/>
                    <a:ext cx="556272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Text Box 6"/>
          <p:cNvSpPr/>
          <p:nvPr/>
        </p:nvSpPr>
        <p:spPr>
          <a:xfrm flipH="1" rot="10800000">
            <a:off x="1069200" y="2895480"/>
            <a:ext cx="5461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igh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3427200" y="5943600"/>
            <a:ext cx="24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rtfolio Var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9"/>
          <p:cNvSpPr/>
          <p:nvPr/>
        </p:nvSpPr>
        <p:spPr>
          <a:xfrm flipH="1">
            <a:off x="2133720" y="4114800"/>
            <a:ext cx="32004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5334120" y="4114800"/>
            <a:ext cx="0" cy="137160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57E7-9F0D-4875-90B5-2E063E2D2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Correlation and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Risk Reduct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folio risk decreases as the correlation coefficient in the returns of two securities decr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k reduction is greatest when the securities are perfectly negatively corre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securities are perfectly positively correlated, there is no risk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41A4-9D03-4CE0-8A70-3DB12DC7D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he n-Security Cas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n-security portfolio, the variance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Object 4"/>
          <p:cNvGraphicFramePr/>
          <p:nvPr/>
        </p:nvGraphicFramePr>
        <p:xfrm>
          <a:off x="1295280" y="3048120"/>
          <a:ext cx="661212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048120"/>
                    <a:ext cx="661212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82E5-687C-47A0-AC78-ED40932F4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he n-Security Case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variance matr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tabular presentation of the pairwise combinations of all portfolio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quired number of covariances to compute a portfolio variance is (n</a:t>
            </a:r>
            <a:r>
              <a:rPr b="0" lang="en-US" sz="2800" spc="-1" strike="noStrike" baseline="4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n)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portfolio construction technique using the full covariance matrix is called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rkowitz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1E34-28D4-449D-A860-3B1F46739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ason for portfolio theory mathemat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how why diversification is a good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how why diversification makes sense log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3393-78D9-41E2-9AE4-22CB809CD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Example of Variance-Covariance Matrix Computation in Excel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80769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334B-3D92-4928-9494-D5E8EDF01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AB73-9DD8-45DB-A967-CD0D12EA1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4"/>
          <p:cNvSpPr/>
          <p:nvPr/>
        </p:nvSpPr>
        <p:spPr>
          <a:xfrm>
            <a:off x="0" y="-4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2600" y="3687840"/>
          <a:ext cx="596880" cy="517320"/>
        </p:xfrm>
        <a:graphic>
          <a:graphicData uri="http://schemas.openxmlformats.org/drawingml/2006/table">
            <a:tbl>
              <a:tblPr/>
              <a:tblGrid>
                <a:gridCol w="5968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5" name="Picture 258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001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D9C9-D758-49E6-920E-3F497B4A1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Portfolio Mathematics (Matrix Form)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w as the (vertical) vector of weights on the different ass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    the (vertical) vector of expected retu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V be their variance-covariance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nce of the portfolio is th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folio optimization consists of minimizing this variance subject to the constraint of achieving a given expected retu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2286000" y="4114800"/>
          <a:ext cx="175248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4114800"/>
                    <a:ext cx="175248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5"/>
          <p:cNvGraphicFramePr/>
          <p:nvPr/>
        </p:nvGraphicFramePr>
        <p:xfrm>
          <a:off x="2133720" y="2819520"/>
          <a:ext cx="40788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2819520"/>
                    <a:ext cx="4078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7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A2CA-D924-471A-B85D-06E46E68B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80"/>
                </a:solidFill>
                <a:uFillTx/>
                <a:latin typeface="Times New Roman"/>
              </a:rPr>
              <a:t>Portfolio Variance in the 2-asset case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Object 6"/>
          <p:cNvGraphicFramePr/>
          <p:nvPr/>
        </p:nvGraphicFramePr>
        <p:xfrm>
          <a:off x="838080" y="5029200"/>
          <a:ext cx="426744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5029200"/>
                    <a:ext cx="42674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4"/>
          <p:cNvGraphicFramePr/>
          <p:nvPr/>
        </p:nvGraphicFramePr>
        <p:xfrm>
          <a:off x="914400" y="2590920"/>
          <a:ext cx="3733920" cy="81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590920"/>
                    <a:ext cx="37339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5"/>
          <p:cNvGraphicFramePr/>
          <p:nvPr/>
        </p:nvGraphicFramePr>
        <p:xfrm>
          <a:off x="838080" y="3962520"/>
          <a:ext cx="5486400" cy="104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3962520"/>
                    <a:ext cx="5486400" cy="104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8"/>
          <p:cNvGraphicFramePr/>
          <p:nvPr/>
        </p:nvGraphicFramePr>
        <p:xfrm>
          <a:off x="838080" y="5638680"/>
          <a:ext cx="4724640" cy="53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3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5638680"/>
                    <a:ext cx="472464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89A0-AEA9-4FCC-8743-B385F3B1C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Covariance Between Two Portfolios (Matrix Form)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the (vertical) vector of weights on the different assets in portfolio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the (vertical) vector of weights on the different assets in portfolio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    the (vertical) vector of expected retu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V be their variance-covariance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vari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tween the two portfolio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Object 4"/>
          <p:cNvGraphicFramePr/>
          <p:nvPr/>
        </p:nvGraphicFramePr>
        <p:xfrm>
          <a:off x="762120" y="5257800"/>
          <a:ext cx="79246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257800"/>
                    <a:ext cx="79246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5"/>
          <p:cNvGraphicFramePr/>
          <p:nvPr/>
        </p:nvGraphicFramePr>
        <p:xfrm>
          <a:off x="2133720" y="3657600"/>
          <a:ext cx="40788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657600"/>
                    <a:ext cx="4078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3851-4980-4029-B1F1-FA081CB52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80"/>
                </a:solidFill>
                <a:uFillTx/>
                <a:latin typeface="Times New Roman"/>
              </a:rPr>
              <a:t>The Optimization Problem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iz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ject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E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esired (target) expected return on the portfolio and     is a vector of ones and the vector     is defined a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Object 4"/>
          <p:cNvGraphicFramePr/>
          <p:nvPr/>
        </p:nvGraphicFramePr>
        <p:xfrm>
          <a:off x="2971800" y="1981080"/>
          <a:ext cx="1035000" cy="4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981080"/>
                    <a:ext cx="103500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Object 5"/>
          <p:cNvGraphicFramePr/>
          <p:nvPr/>
        </p:nvGraphicFramePr>
        <p:xfrm>
          <a:off x="1676520" y="2438280"/>
          <a:ext cx="380880" cy="3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438280"/>
                    <a:ext cx="38088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6"/>
          <p:cNvGraphicFramePr/>
          <p:nvPr/>
        </p:nvGraphicFramePr>
        <p:xfrm>
          <a:off x="2895480" y="3112920"/>
          <a:ext cx="2140200" cy="129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3112920"/>
                    <a:ext cx="2140200" cy="12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7"/>
          <p:cNvGraphicFramePr/>
          <p:nvPr/>
        </p:nvGraphicFramePr>
        <p:xfrm>
          <a:off x="2743200" y="4648320"/>
          <a:ext cx="22860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4648320"/>
                    <a:ext cx="228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8"/>
          <p:cNvGraphicFramePr/>
          <p:nvPr/>
        </p:nvGraphicFramePr>
        <p:xfrm>
          <a:off x="7086600" y="4800600"/>
          <a:ext cx="35244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3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86600" y="4800600"/>
                    <a:ext cx="3524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Object 9"/>
          <p:cNvGraphicFramePr/>
          <p:nvPr/>
        </p:nvGraphicFramePr>
        <p:xfrm>
          <a:off x="2743200" y="5105520"/>
          <a:ext cx="2133720" cy="120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5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43200" y="5105520"/>
                    <a:ext cx="2133720" cy="12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7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64D0-FD91-4A7A-9252-15A6C7D99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Lagrangian Method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9" name="Object 5"/>
          <p:cNvGraphicFramePr/>
          <p:nvPr/>
        </p:nvGraphicFramePr>
        <p:xfrm>
          <a:off x="2057400" y="2743200"/>
          <a:ext cx="5410080" cy="9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743200"/>
                    <a:ext cx="54100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Object 4"/>
          <p:cNvGraphicFramePr/>
          <p:nvPr/>
        </p:nvGraphicFramePr>
        <p:xfrm>
          <a:off x="1523880" y="1752480"/>
          <a:ext cx="5867640" cy="85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1752480"/>
                    <a:ext cx="586764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7"/>
          <p:cNvGraphicFramePr/>
          <p:nvPr/>
        </p:nvGraphicFramePr>
        <p:xfrm>
          <a:off x="914400" y="2362320"/>
          <a:ext cx="304920" cy="27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2362320"/>
                    <a:ext cx="3049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10"/>
          <p:cNvGraphicFramePr/>
          <p:nvPr/>
        </p:nvGraphicFramePr>
        <p:xfrm>
          <a:off x="1447920" y="3429000"/>
          <a:ext cx="304560" cy="27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6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3429000"/>
                    <a:ext cx="30456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11"/>
          <p:cNvGraphicFramePr/>
          <p:nvPr/>
        </p:nvGraphicFramePr>
        <p:xfrm>
          <a:off x="2438280" y="3809880"/>
          <a:ext cx="5032440" cy="897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8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38280" y="3809880"/>
                    <a:ext cx="503244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Object 13"/>
          <p:cNvGraphicFramePr/>
          <p:nvPr/>
        </p:nvGraphicFramePr>
        <p:xfrm>
          <a:off x="1828800" y="4419720"/>
          <a:ext cx="304920" cy="279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0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4419720"/>
                    <a:ext cx="3049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Object 15"/>
          <p:cNvGraphicFramePr/>
          <p:nvPr/>
        </p:nvGraphicFramePr>
        <p:xfrm>
          <a:off x="741240" y="4714920"/>
          <a:ext cx="5757840" cy="1595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2" name="Object 1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41240" y="4714920"/>
                    <a:ext cx="575784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A2C4-14ED-4821-BCE4-494FD9DBA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Taking Derivative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305" name="Object 4"/>
          <p:cNvGraphicFramePr/>
          <p:nvPr/>
        </p:nvGraphicFramePr>
        <p:xfrm>
          <a:off x="685800" y="1981080"/>
          <a:ext cx="6781680" cy="42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678168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B866-CBFF-4C61-BD17-2C7939C4B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Object 4"/>
          <p:cNvGraphicFramePr/>
          <p:nvPr/>
        </p:nvGraphicFramePr>
        <p:xfrm>
          <a:off x="990720" y="555480"/>
          <a:ext cx="7010280" cy="586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55480"/>
                    <a:ext cx="7010280" cy="58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AE83-06F5-44F7-A264-468CBC3E4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ry Markowitz’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fficient portfoli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se portfolios providing the maximum return for their level of 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se portfolios providing the minimum risk for a certain level of retu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41B1-F165-4EFB-8CD9-CA7980B37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st equation solves the mean-variance portfolio problem. The equation gives us the optimal weights achieving the lowest portfolio variance given a desired expected portfolio retu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, plugging the optimal portfolio weights back into the var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s us the efficient portfolio frontie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Object 6"/>
          <p:cNvGraphicFramePr/>
          <p:nvPr/>
        </p:nvGraphicFramePr>
        <p:xfrm>
          <a:off x="6248520" y="3733920"/>
          <a:ext cx="1523880" cy="54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3733920"/>
                    <a:ext cx="152388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Object 7"/>
          <p:cNvGraphicFramePr/>
          <p:nvPr/>
        </p:nvGraphicFramePr>
        <p:xfrm>
          <a:off x="1143000" y="5005440"/>
          <a:ext cx="6172200" cy="10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5005440"/>
                    <a:ext cx="617220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6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312F-C2EB-4320-846F-7465C3E34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Global Minimum Variance Portfolio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similar fashion, we can solve for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lobal minimum vari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rtfol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lobal minimum variance portfolio is the efficient frontier portfolio that displays the absolute minimum vari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Object 4"/>
          <p:cNvGraphicFramePr/>
          <p:nvPr/>
        </p:nvGraphicFramePr>
        <p:xfrm>
          <a:off x="1143000" y="3124080"/>
          <a:ext cx="6934320" cy="9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124080"/>
                    <a:ext cx="693432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51BF-895E-4266-BA58-3A2493E27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Another Way to Derive the Mean-Variance Efficient Portfolio </a:t>
            </a:r>
            <a:r>
              <a:rPr b="0" lang="en-US" sz="4000" spc="-1" strike="noStrike" u="sng">
                <a:solidFill>
                  <a:srgbClr val="000080"/>
                </a:solidFill>
                <a:uFillTx/>
                <a:latin typeface="Times New Roman"/>
              </a:rPr>
              <a:t>Frontier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use of the following property: if two portfolios lie on the efficient frontier, any linear combination of these portfolios will also lie on the frontier. Therefore, just find two mean-variance efficient portfolios, and compute/plot the mean and standard deviation of various linear combinations of these portfol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CB57-8244-4C18-866F-997263D2B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5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229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639A-12EA-4FAF-AC47-CA15BF95F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229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A516-8E69-41FB-AA8F-70F2F6F9F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Some Excel Tip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giv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an array (i.e., to name a matrix or a vector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light the array (the numbers defining the matri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on ‘Insert’, then ‘Name’, and finally ‘Define’ and type in the desired n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DD0E-BC67-479F-B64B-32A8A6423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Excel Tips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mpute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ver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matrix previously named (as an example) “V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the following formula:   ‘=minverse(V)’  and click E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-select the cell where you just entered the formula, and highlight a larger area/array of the size that you predict the inverse matrix will t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F2, then CTRL + SHIFT + 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8ED4-E767-45CA-ADFC-E23B4D540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Excel Tips (en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ltip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wo matrices named “V” and “W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the following formula:   ‘=mmult(V,W)’  and click E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-select the cell where you just entered the formula, and highlight a larger area/array of the size that you predict the product matrix will t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F2, then CTRL + SHIFT + 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AB35-AFBE-4802-BD33-693E39226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Times New Roman"/>
              </a:rPr>
              <a:t>Single-Index Model Computational Advantages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ingle-index mod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ares all securities to a single benchm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lternative to comparing a security to each of the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observing how two independent securities behave relative to a third value, we learn something about how the securities are likely to behave relative to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3886-60CE-4083-9856-97A2989EF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Computational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Advantages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ingle index drastically reduces the number of computations needed to determine portfolio var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curity’s beta is an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Object 4"/>
          <p:cNvGraphicFramePr/>
          <p:nvPr/>
        </p:nvGraphicFramePr>
        <p:xfrm>
          <a:off x="1905120" y="3962520"/>
          <a:ext cx="5003640" cy="23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962520"/>
                    <a:ext cx="5003640" cy="23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7049-3949-408C-9A9E-8EE928060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ortfolio’s performance is the result of the performance of its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turn realized on a portfolio is a linear combination of the returns on the individual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nce of the portfolio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near combination of component vari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2853-0F5D-4E12-982B-7A03BE7B4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Statistics With the Single-Index Model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a of a portfoli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nce of a portfoli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Object 4"/>
          <p:cNvGraphicFramePr/>
          <p:nvPr/>
        </p:nvGraphicFramePr>
        <p:xfrm>
          <a:off x="2971800" y="2514600"/>
          <a:ext cx="2171880" cy="117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514600"/>
                    <a:ext cx="217188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5"/>
          <p:cNvGraphicFramePr/>
          <p:nvPr/>
        </p:nvGraphicFramePr>
        <p:xfrm>
          <a:off x="2819520" y="4419720"/>
          <a:ext cx="2641320" cy="13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4419720"/>
                    <a:ext cx="264132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8717-8CD4-4C25-89B0-3AEBA926F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Proof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355" name="Object 4"/>
          <p:cNvGraphicFramePr/>
          <p:nvPr/>
        </p:nvGraphicFramePr>
        <p:xfrm>
          <a:off x="762120" y="1295280"/>
          <a:ext cx="6713280" cy="512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95280"/>
                    <a:ext cx="6713280" cy="512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74AE-0941-4C6E-BBE5-098A2E32B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Statistics With the Single-Index Model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nce of a portfolio compon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variance of two portfolio compon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Object 6"/>
          <p:cNvGraphicFramePr/>
          <p:nvPr/>
        </p:nvGraphicFramePr>
        <p:xfrm>
          <a:off x="2895480" y="2666880"/>
          <a:ext cx="3225960" cy="7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666880"/>
                    <a:ext cx="322596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7"/>
          <p:cNvGraphicFramePr/>
          <p:nvPr/>
        </p:nvGraphicFramePr>
        <p:xfrm>
          <a:off x="3276720" y="4572000"/>
          <a:ext cx="2527200" cy="6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572000"/>
                    <a:ext cx="252720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E6FA-1491-4193-AD8F-1B673CB39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Proof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366" name="Object 3"/>
          <p:cNvGraphicFramePr/>
          <p:nvPr/>
        </p:nvGraphicFramePr>
        <p:xfrm>
          <a:off x="533520" y="2022480"/>
          <a:ext cx="8076960" cy="36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22480"/>
                    <a:ext cx="807696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16A7-88D6-46BC-A76E-FF1B82022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ulti-Index Model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ulti-index mod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iders independent variables other than the performance of an overall market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particular interest a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dustry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s associated with a particular line of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the performance of grocery stores vs. steel companies in a rec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63BC-F64F-44B3-9D89-0A4F29DCF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ulti-Index Model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neral form of a multi-index mod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Object 4"/>
          <p:cNvGraphicFramePr/>
          <p:nvPr/>
        </p:nvGraphicFramePr>
        <p:xfrm>
          <a:off x="1295280" y="2544840"/>
          <a:ext cx="6248520" cy="37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44840"/>
                    <a:ext cx="6248520" cy="37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C0EB-673F-46BA-8ED4-6AC3F7C71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Retur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pected return of a portfolio is a weighted average of the expected returns of the compon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1905120" y="3429000"/>
          <a:ext cx="5067360" cy="29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429000"/>
                    <a:ext cx="5067360" cy="29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4112-564D-45E2-A4EC-93BEF9EF5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Varianc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-security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um variance portfo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lation and risk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-security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B488-97B9-4CF5-B5A7-598ED002D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ing portfolio variance is the essence of understanding the mathematics of diver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nce of a linear combination of random variables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weighted average of the component vari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A740-104A-478B-950A-3C535DE9A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n-security portfolio, the portfolio variance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Object 4"/>
          <p:cNvGraphicFramePr/>
          <p:nvPr/>
        </p:nvGraphicFramePr>
        <p:xfrm>
          <a:off x="1219320" y="3352680"/>
          <a:ext cx="661176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352680"/>
                    <a:ext cx="661176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82B8-D525-4A6A-813B-A69A777EE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wo-Security Cas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two-security portfolio containing Stock A and Stock B, the variance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Object 4"/>
          <p:cNvGraphicFramePr/>
          <p:nvPr/>
        </p:nvGraphicFramePr>
        <p:xfrm>
          <a:off x="1066680" y="3581280"/>
          <a:ext cx="6363000" cy="7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581280"/>
                    <a:ext cx="636300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3T19:49:06Z</dcterms:created>
  <dc:creator>Paul</dc:creator>
  <dc:description/>
  <dc:language>en-US</dc:language>
  <cp:lastModifiedBy>Paul Grems Duncan</cp:lastModifiedBy>
  <dcterms:modified xsi:type="dcterms:W3CDTF">2011-03-15T01:48:46Z</dcterms:modified>
  <cp:revision>144</cp:revision>
  <dc:subject/>
  <dc:title>PowerPoint Presentation</dc:title>
</cp:coreProperties>
</file>